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57640" y="510840"/>
            <a:ext cx="3395520" cy="25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FFF208-1007-4A38-A008-8BE50185E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257640" y="511200"/>
            <a:ext cx="3395520" cy="254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can be derived by just looking at the linear function of a Gaussian (ax+bu) and a convolution of two Gaus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257640" y="511200"/>
            <a:ext cx="3395520" cy="25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19040" y="3227040"/>
            <a:ext cx="7267680" cy="305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e multiplication of two Gaussians (ignore c matrix to make it eas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rive mean, multiply K = sigma / sigma * q into the equation, expand the left mean by sigma + q / sigma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rive variance, same approach: expand left sigma with sigma + q / sigma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5FD81D-0ECD-4958-ABA1-3201BF9E5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265560" y="517680"/>
            <a:ext cx="3379680" cy="2535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21920" y="3230640"/>
            <a:ext cx="725652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61348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EEEB2F-1823-44C1-B86E-4085CE168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6456240"/>
            <a:ext cx="4292640" cy="33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13480" y="-360"/>
            <a:ext cx="4292640" cy="338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265560" y="517680"/>
            <a:ext cx="3379680" cy="2535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21920" y="3230640"/>
            <a:ext cx="725652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409-F41F-4FEA-86B8-1E5F4AB1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2CD-C7AD-4113-A03F-39E5E57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BA5-4376-4DA0-B4F4-F2A32956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CC4-57DF-45D4-907F-2354BEF8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C567-5BD7-4930-9360-8569B87B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1C4-D76B-4526-AD26-A72C2A6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CE8-32CC-415B-A8DB-04C3200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F9E-3B80-4474-9F10-23A9475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1A77-8727-4D6D-9F3E-F01B059E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7A5-EDB0-4CCC-A5B4-169EFF9C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BB0A-15D3-46F7-B5DE-28AD233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0F6-A33F-4FCD-90D0-B4FE396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A175-DD00-4051-9AB8-914635F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6442-08E6-4EAB-A61C-B94B3EE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373C-5CD9-4358-8C02-EC49696A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0CA-D9E1-4DD2-AB18-340C9668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76A-869D-47DF-BE33-FF93604E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08A-1F57-4B64-86EE-96F1C6C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196-0B81-40E0-A261-83FBBB54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8AB-E031-4039-BD51-7FE2B51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E3B-AA58-4D3D-86B4-955282F0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AF8-100D-4DF4-A934-80291F8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B32-20C3-4916-A02E-72ECE736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B44-7F7C-4EDC-A924-A0C6C07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8CDE-25AD-4F84-ACFA-62340AE1A9EA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912B-3B43-43C6-8939-B122BFF4BE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0C7-B658-4249-87D0-46CD797A8D2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B881-909D-412F-B4F5-9BC6BE7557E4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Verdana"/>
              </a:rPr>
              <a:t>Bayes Filter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0E4-F96E-4509-A7BF-E0C0EABA37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67840" y="125532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s are linear function of state and control plus additive noi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9560" y="2473200"/>
                <a:ext cx="345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 Gaussian Systems: Dynamic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22160" y="3260880"/>
                <a:ext cx="61754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23960" y="4164120"/>
                <a:ext cx="8165880" cy="20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F5-676C-4070-8DD6-EB613B32D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67840" y="125532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s are linear function of state plus additive noi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6960" y="2473200"/>
                <a:ext cx="2233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Observation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19280" y="3260880"/>
                <a:ext cx="4325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50960" y="4179960"/>
                <a:ext cx="76039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Σ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B42-338C-421F-BFD6-E49DEFF866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11400" y="3451320"/>
                <a:ext cx="4410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Initialization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itial belief is normally distribu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4C3-2B06-476C-855D-C46E6A6D6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2440" y="1000080"/>
            <a:ext cx="8418600" cy="2895480"/>
            <a:chOff x="352440" y="1000080"/>
            <a:chExt cx="8418600" cy="28954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52440" y="1000080"/>
              <a:ext cx="3960720" cy="28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809960" y="1031760"/>
              <a:ext cx="3961080" cy="286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C5C-DAD4-40AE-A331-51767E8DA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2440" y="993600"/>
            <a:ext cx="3960720" cy="2864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09960" y="971640"/>
            <a:ext cx="3961080" cy="286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2440" y="3889440"/>
            <a:ext cx="3960720" cy="2863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802040" y="3860640"/>
            <a:ext cx="3961080" cy="28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87D-F06E-44CF-BC15-275F97019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09960" y="3914640"/>
            <a:ext cx="3961080" cy="28641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748040" y="1268280"/>
            <a:ext cx="4070520" cy="2365200"/>
            <a:chOff x="4748040" y="1268280"/>
            <a:chExt cx="4070520" cy="23652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48040" y="2535120"/>
                  <a:ext cx="407052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757760" y="1268280"/>
                  <a:ext cx="4013280" cy="10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568-4DFF-4CFB-9CD8-40CC90BD77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Kalman Filter Updates in 1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52440" y="3908520"/>
            <a:ext cx="3960720" cy="28638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601560" y="1352520"/>
            <a:ext cx="7985160" cy="1982880"/>
            <a:chOff x="601560" y="1352520"/>
            <a:chExt cx="7985160" cy="198288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1560" y="2448000"/>
                  <a:ext cx="798516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ith  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642600" y="1352520"/>
                  <a:ext cx="658836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ith   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E16-EC40-49BE-BA8C-D8AAB968D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 Gaussian Systems: Dynamic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77960" y="1108080"/>
                <a:ext cx="8096040" cy="503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19D-00A4-4458-9933-C4D481C83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inear Gaussian Systems: Observation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1280" y="1449360"/>
                <a:ext cx="8753400" cy="39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Σ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   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Σ</m:t>
                                </m:r>
                              </m:e>
                            </m:ba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Σ</m:t>
                                </m:r>
                              </m:e>
                            </m:ba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20E-04DB-44BD-A365-FB352DC6E7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98560" y="2165400"/>
            <a:ext cx="2643120" cy="19098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610240" y="2211480"/>
            <a:ext cx="2732040" cy="3249360"/>
            <a:chOff x="5610240" y="2211480"/>
            <a:chExt cx="2732040" cy="32493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610240" y="3486240"/>
              <a:ext cx="2732040" cy="197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5815080" y="2211480"/>
              <a:ext cx="2441520" cy="1003320"/>
              <a:chOff x="5815080" y="2211480"/>
              <a:chExt cx="2441520" cy="1003320"/>
            </a:xfrm>
          </p:grpSpPr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5815080" y="2748960"/>
                    <a:ext cx="2441520" cy="46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bar>
                                        <m:barPr>
                                          <m:pos m:val="top"/>
                                        </m:bar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5820840" y="2211480"/>
                    <a:ext cx="2407320" cy="46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l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acc>
                                        <m:accPr>
                                          <m:chr m:val="¯"/>
                                        </m:accPr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ct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92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48040" y="1171440"/>
            <a:ext cx="5972040" cy="800280"/>
            <a:chOff x="2048040" y="1171440"/>
            <a:chExt cx="5972040" cy="800280"/>
          </a:xfrm>
        </p:grpSpPr>
        <p:sp>
          <p:nvSpPr>
            <p:cNvPr id="194" name=""/>
            <p:cNvSpPr/>
            <p:nvPr/>
          </p:nvSpPr>
          <p:spPr>
            <a:xfrm>
              <a:off x="2048040" y="117144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1320" y="1573200"/>
              <a:ext cx="236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ed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ED9-F070-4411-9CA2-0C86D863BA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28A-E612-4059-B2CE-3C1D295DE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07960" y="4390920"/>
            <a:ext cx="4076640" cy="992160"/>
            <a:chOff x="507960" y="4390920"/>
            <a:chExt cx="4076640" cy="9921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507960" y="4954680"/>
                  <a:ext cx="4076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525600" y="4390920"/>
                  <a:ext cx="324936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,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610240" y="3486240"/>
            <a:ext cx="2732040" cy="197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14160" y="5714640"/>
            <a:ext cx="5972040" cy="800280"/>
            <a:chOff x="1514160" y="5714640"/>
            <a:chExt cx="5972040" cy="800280"/>
          </a:xfrm>
        </p:grpSpPr>
        <p:sp>
          <p:nvSpPr>
            <p:cNvPr id="203" name=""/>
            <p:cNvSpPr/>
            <p:nvPr/>
          </p:nvSpPr>
          <p:spPr>
            <a:xfrm rot="10800000">
              <a:off x="1514160" y="571464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31880" y="5792760"/>
              <a:ext cx="2400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4440" y="2252520"/>
            <a:ext cx="2708280" cy="19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63B-3AC4-435D-9E13-07172E4B2A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Prediction-Correction-Cyc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17480" y="3295800"/>
            <a:ext cx="4075200" cy="991800"/>
            <a:chOff x="717480" y="3295800"/>
            <a:chExt cx="4075200" cy="99180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717480" y="3858840"/>
                  <a:ext cx="40752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Σ</m:t>
                              </m:r>
                            </m:e>
                          </m:ba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T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34760" y="3295800"/>
                  <a:ext cx="3250440" cy="42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e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,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σ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bs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0" name=""/>
          <p:cNvGrpSpPr/>
          <p:nvPr/>
        </p:nvGrpSpPr>
        <p:grpSpPr>
          <a:xfrm>
            <a:off x="5977080" y="3306600"/>
            <a:ext cx="2441520" cy="1003320"/>
            <a:chOff x="5977080" y="3306600"/>
            <a:chExt cx="2441520" cy="100332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5977080" y="3844080"/>
                  <a:ext cx="244152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982840" y="3306600"/>
                  <a:ext cx="2407320" cy="46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el</m:t>
                          </m:r>
                        </m:e>
                      </m:ba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t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"/>
          <p:cNvSpPr/>
          <p:nvPr/>
        </p:nvSpPr>
        <p:spPr>
          <a:xfrm>
            <a:off x="2695680" y="1228680"/>
            <a:ext cx="4400280" cy="647640"/>
          </a:xfrm>
          <a:custGeom>
            <a:avLst/>
            <a:gdLst>
              <a:gd name="textAreaLeft" fmla="*/ 770040 w 4400280"/>
              <a:gd name="textAreaRight" fmla="*/ 3190320 w 4400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14160" y="4828680"/>
            <a:ext cx="5972040" cy="800280"/>
            <a:chOff x="1514160" y="4828680"/>
            <a:chExt cx="5972040" cy="800280"/>
          </a:xfrm>
        </p:grpSpPr>
        <p:sp>
          <p:nvSpPr>
            <p:cNvPr id="215" name=""/>
            <p:cNvSpPr/>
            <p:nvPr/>
          </p:nvSpPr>
          <p:spPr>
            <a:xfrm rot="10800000">
              <a:off x="1514160" y="4828680"/>
              <a:ext cx="5972040" cy="80028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800280"/>
                <a:gd name="textAreaBottom" fmla="*/ 69336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1880" y="4906800"/>
              <a:ext cx="2400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48040" y="2114640"/>
            <a:ext cx="5972040" cy="799920"/>
            <a:chOff x="2048040" y="2114640"/>
            <a:chExt cx="5972040" cy="799920"/>
          </a:xfrm>
        </p:grpSpPr>
        <p:sp>
          <p:nvSpPr>
            <p:cNvPr id="218" name=""/>
            <p:cNvSpPr/>
            <p:nvPr/>
          </p:nvSpPr>
          <p:spPr>
            <a:xfrm>
              <a:off x="2048040" y="2114640"/>
              <a:ext cx="5972040" cy="799920"/>
            </a:xfrm>
            <a:custGeom>
              <a:avLst/>
              <a:gdLst>
                <a:gd name="textAreaLeft" fmla="*/ 1045080 w 5972040"/>
                <a:gd name="textAreaRight" fmla="*/ 4329720 w 5972040"/>
                <a:gd name="textAreaTop" fmla="*/ 106920 h 799920"/>
                <a:gd name="textAreaBottom" fmla="*/ 6930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21320" y="2516040"/>
              <a:ext cx="236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red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232-B73F-4CF7-811C-8AEF6D0903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Optimal for linear Gaussian system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obotics systems are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nline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CB8-FE10-438C-B32E-D48FF29272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linear Dynamic Syste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ealistic robotic problems involve nonlinear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30400" y="2795760"/>
                <a:ext cx="27381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50920" y="4091040"/>
                <a:ext cx="1876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14C-469D-4078-80B1-D90617351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inearity Assumption Revisite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00400" y="1317600"/>
            <a:ext cx="456228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CAA-5890-4490-9371-76B433F86A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linear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3D0-36EC-498B-B48A-2CCF6D7EC2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1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57D-F88A-4A67-A29B-FE9A36A9C3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2)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BFE-0119-4F80-903B-DFD2F1B7C0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652-6924-4B44-9D99-C997EBBC79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Linearization: First Order Taylor Series Expans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96840" y="2097000"/>
                <a:ext cx="54579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73160" y="4430880"/>
                <a:ext cx="36082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28C-D761-49C3-B727-8E4AE7876C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600" y="32904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0200" y="485640"/>
            <a:ext cx="8196120" cy="2611440"/>
            <a:chOff x="700200" y="485640"/>
            <a:chExt cx="8196120" cy="261144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00200" y="1087560"/>
                  <a:ext cx="2482560" cy="16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e>
                              </m:rad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μ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9" name=""/>
            <p:cNvGrpSpPr/>
            <p:nvPr/>
          </p:nvGrpSpPr>
          <p:grpSpPr>
            <a:xfrm>
              <a:off x="4933800" y="485640"/>
              <a:ext cx="3962520" cy="2600640"/>
              <a:chOff x="4933800" y="485640"/>
              <a:chExt cx="3962520" cy="26006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3800" y="485640"/>
                <a:ext cx="3962520" cy="2600640"/>
              </a:xfrm>
              <a:prstGeom prst="rect">
                <a:avLst/>
              </a:prstGeom>
              <a:ln w="25560">
                <a:solidFill>
                  <a:srgbClr val="0033cc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276960" y="2876400"/>
                <a:ext cx="37296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-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75520" y="2879640"/>
                <a:ext cx="37296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67360" y="1628640"/>
                <a:ext cx="373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809640" y="2619360"/>
              <a:ext cx="1895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Univari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4200" y="3222360"/>
            <a:ext cx="8161200" cy="3092400"/>
            <a:chOff x="754200" y="3222360"/>
            <a:chExt cx="8161200" cy="30924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4200" y="3876840"/>
                  <a:ext cx="3551040" cy="14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Ν</m:t>
                          </m:r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r>
                            <m:t xml:space="preserve">Σ</m:t>
                          </m:r>
                          <m:r>
                            <m:t xml:space="preserve">)</m:t>
                          </m:r>
                          <m:r>
                            <m:t xml:space="preserve">:</m:t>
                          </m:r>
                        </m:e>
                        <m:e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d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07" name=""/>
            <p:cNvGrpSpPr/>
            <p:nvPr/>
          </p:nvGrpSpPr>
          <p:grpSpPr>
            <a:xfrm>
              <a:off x="4927680" y="3222360"/>
              <a:ext cx="3987720" cy="3092400"/>
              <a:chOff x="4927680" y="3222360"/>
              <a:chExt cx="3987720" cy="3092400"/>
            </a:xfrm>
          </p:grpSpPr>
          <p:sp>
            <p:nvSpPr>
              <p:cNvPr id="108" name=""/>
              <p:cNvSpPr/>
              <p:nvPr/>
            </p:nvSpPr>
            <p:spPr>
              <a:xfrm>
                <a:off x="4927680" y="3429000"/>
                <a:ext cx="3987720" cy="2654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763600">
                <a:off x="6235920" y="3225600"/>
                <a:ext cx="1320840" cy="3085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764200">
                <a:off x="6534000" y="3955680"/>
                <a:ext cx="723960" cy="1625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38920" y="474336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86440" y="4591080"/>
                <a:ext cx="373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806760" y="5502240"/>
              <a:ext cx="217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Multivari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4C6-954D-4A86-B2AD-4E7736B83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532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tended_Kalman_fil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481040" y="2500200"/>
                <a:ext cx="17812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454040" y="2924280"/>
                <a:ext cx="2160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333440" y="4029120"/>
                <a:ext cx="3205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406520" y="4452840"/>
                <a:ext cx="2732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34960" y="4857840"/>
                <a:ext cx="20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23080" y="5500800"/>
                <a:ext cx="1946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1520" y="5510160"/>
                <a:ext cx="1495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31080" y="2476440"/>
                <a:ext cx="2017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012000" y="2924280"/>
                <a:ext cx="2112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950080" y="4029120"/>
                <a:ext cx="3039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97204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9292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 flipH="1">
            <a:off x="4847760" y="272412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47760" y="3191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924080" y="433404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933800" y="4714920"/>
            <a:ext cx="89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914720" y="5143680"/>
            <a:ext cx="89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5A4-C86E-4887-9B61-494A6C95AE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Polynomial in measurement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state dimensionalit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(k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.37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+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ver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nonlinearities are lar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s surprisingly well even when all assumptions are violated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79E-AE6E-48A7-9A79-805E303691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82480" y="1801800"/>
                <a:ext cx="8398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Σ</m:t>
                                    </m:r>
                                  </m:e>
                                </m:rad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for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626840" y="133668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ma points                               Weigh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74560" y="3892680"/>
                <a:ext cx="1567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65200" y="5000760"/>
                <a:ext cx="34052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66560" y="346248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 sigma points through non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4576680"/>
            <a:ext cx="60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ver mean and co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2E8-526C-411A-9421-10DBD61F6C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inearization via Unscented Transfor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19240" y="1301760"/>
            <a:ext cx="1820520" cy="2739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CAD-9990-4C31-84B8-AC550352CD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2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90440" y="1317600"/>
            <a:ext cx="1790640" cy="2695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B7D-F861-4B36-ACCC-670DBF364B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igma-Point Estimate (3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00160" y="1339920"/>
            <a:ext cx="1780920" cy="2682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290680" y="1317600"/>
            <a:ext cx="4562640" cy="4222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29280" y="4321080"/>
            <a:ext cx="78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9280" y="4340160"/>
            <a:ext cx="8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5E4-8EE2-42F8-AD33-0B5C142D8D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Algorith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08040" y="1020600"/>
            <a:ext cx="5418360" cy="583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DE1-2A85-4EAF-B6E8-BFFDC655E8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KF 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1280" y="1436760"/>
            <a:ext cx="84103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Highly efficie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Same complexity as EKF, with a constant factor slower in typical practical applica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Better linearization than EK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Accurate in first two terms of Taylor expansion (EKF only first ter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erivative-fre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No Jacobian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Still not optim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DB9-5D87-4CBE-B540-1F1C9DCED4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284120"/>
            <a:ext cx="86868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 belief by random </a:t>
            </a:r>
            <a:r>
              <a:rPr b="0" lang="en-US" sz="2400" spc="-1" strike="noStrike">
                <a:solidFill>
                  <a:srgbClr val="c5051c"/>
                </a:solidFill>
                <a:latin typeface="Verdana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</a:t>
            </a:r>
            <a:r>
              <a:rPr b="0" lang="en-US" sz="2400" spc="-1" strike="noStrike">
                <a:solidFill>
                  <a:srgbClr val="c5051c"/>
                </a:solidFill>
                <a:latin typeface="Verdana"/>
              </a:rPr>
              <a:t>non-Gaussian, non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e Carlo filter, Survival of the fittest, Condensation, Bootstrap filter, Particl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ing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Rubin, 88], [Gordon et al., 93], [Kitagawa 9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vis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sard and Blake 96, 98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Bayesian Networks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Kanazawa et al., 95]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40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787-7EF9-45E4-8746-9261D04881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2412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16600" y="12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40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49360" y="892080"/>
            <a:ext cx="6504120" cy="57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4CE-8E9D-416A-A971-FFF01E7EF8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1447920"/>
                <a:ext cx="5492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μ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aμ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perties of 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6200" y="3095640"/>
                <a:ext cx="7991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F69-67EF-481A-B8DA-4098437425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Particle Filter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74640" y="1146240"/>
            <a:ext cx="8043840" cy="50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0A7-1857-41FA-861A-B9AB03250E2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S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=(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) of weight s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Want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Random sample, where the probability of draw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iven b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ly do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imes with replacement to generate new sample s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2BD-775E-4D0D-9B8F-9B033DC24E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10116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Resampling Algorithm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82480" y="938160"/>
            <a:ext cx="820260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0D4-D464-46B9-987D-87DC82CAA20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320800" y="1258920"/>
            <a:ext cx="3159360" cy="3159000"/>
            <a:chOff x="5320800" y="1258920"/>
            <a:chExt cx="3159360" cy="3159000"/>
          </a:xfrm>
        </p:grpSpPr>
        <p:sp>
          <p:nvSpPr>
            <p:cNvPr id="302" name=""/>
            <p:cNvSpPr/>
            <p:nvPr/>
          </p:nvSpPr>
          <p:spPr>
            <a:xfrm>
              <a:off x="5321160" y="1258920"/>
              <a:ext cx="3159000" cy="31590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896160" y="1290240"/>
              <a:ext cx="285480" cy="154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889680" y="1722240"/>
              <a:ext cx="1130400" cy="11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89680" y="2827080"/>
              <a:ext cx="154296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3200" y="2820960"/>
              <a:ext cx="1327320" cy="89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889680" y="1271160"/>
              <a:ext cx="6480" cy="157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6235200" y="1410840"/>
              <a:ext cx="660600" cy="142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479920" y="2116080"/>
              <a:ext cx="1416240" cy="71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422320" y="2293560"/>
              <a:ext cx="1473480" cy="52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320800" y="2833560"/>
              <a:ext cx="156852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13480" y="152064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223200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3680" y="1298520"/>
              <a:ext cx="3513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91080" y="134928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76840" y="1692000"/>
              <a:ext cx="5112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2280" y="2833560"/>
              <a:ext cx="762120" cy="13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160" y="2820960"/>
              <a:ext cx="457200" cy="15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13040" y="2852640"/>
              <a:ext cx="476280" cy="149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16200" y="2839680"/>
              <a:ext cx="148572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479920" y="2852640"/>
              <a:ext cx="141624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504040" y="1441440"/>
              <a:ext cx="2793600" cy="2793240"/>
              <a:chOff x="5504040" y="1441440"/>
              <a:chExt cx="2793600" cy="2793240"/>
            </a:xfrm>
          </p:grpSpPr>
          <p:sp>
            <p:nvSpPr>
              <p:cNvPr id="323" name=""/>
              <p:cNvSpPr/>
              <p:nvPr/>
            </p:nvSpPr>
            <p:spPr>
              <a:xfrm rot="515400">
                <a:off x="5673240" y="1610640"/>
                <a:ext cx="2454480" cy="2454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3" idx="2"/>
                <a:endCxn id="323" idx="6"/>
              </p:cNvCxnSpPr>
              <p:nvPr/>
            </p:nvCxnSpPr>
            <p:spPr>
              <a:xfrm>
                <a:off x="5673240" y="2652120"/>
                <a:ext cx="2453400" cy="370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5" name=""/>
              <p:cNvCxnSpPr>
                <a:stCxn id="323" idx="0"/>
                <a:endCxn id="323" idx="4"/>
              </p:cNvCxnSpPr>
              <p:nvPr/>
            </p:nvCxnSpPr>
            <p:spPr>
              <a:xfrm flipH="1">
                <a:off x="6714360" y="1611000"/>
                <a:ext cx="370440" cy="2453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6" name=""/>
              <p:cNvCxnSpPr>
                <a:stCxn id="323" idx="1"/>
                <a:endCxn id="323" idx="5"/>
              </p:cNvCxnSpPr>
              <p:nvPr/>
            </p:nvCxnSpPr>
            <p:spPr>
              <a:xfrm>
                <a:off x="6173280" y="1836000"/>
                <a:ext cx="1453320" cy="2002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27" name=""/>
              <p:cNvCxnSpPr>
                <a:stCxn id="323" idx="3"/>
                <a:endCxn id="323" idx="7"/>
              </p:cNvCxnSpPr>
              <p:nvPr/>
            </p:nvCxnSpPr>
            <p:spPr>
              <a:xfrm flipV="1">
                <a:off x="5909760" y="2095920"/>
                <a:ext cx="1980360" cy="1481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grpSp>
        <p:nvGrpSpPr>
          <p:cNvPr id="328" name=""/>
          <p:cNvGrpSpPr/>
          <p:nvPr/>
        </p:nvGrpSpPr>
        <p:grpSpPr>
          <a:xfrm>
            <a:off x="5204160" y="1143000"/>
            <a:ext cx="3393360" cy="3393720"/>
            <a:chOff x="5204160" y="1143000"/>
            <a:chExt cx="3393360" cy="3393720"/>
          </a:xfrm>
        </p:grpSpPr>
        <p:sp>
          <p:nvSpPr>
            <p:cNvPr id="329" name=""/>
            <p:cNvSpPr/>
            <p:nvPr/>
          </p:nvSpPr>
          <p:spPr>
            <a:xfrm rot="1972200">
              <a:off x="5673600" y="1612440"/>
              <a:ext cx="2454480" cy="2454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9" idx="2"/>
              <a:endCxn id="329" idx="6"/>
            </p:cNvCxnSpPr>
            <p:nvPr/>
          </p:nvCxnSpPr>
          <p:spPr>
            <a:xfrm>
              <a:off x="5858280" y="2165760"/>
              <a:ext cx="2084400" cy="134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1" name=""/>
            <p:cNvCxnSpPr>
              <a:stCxn id="329" idx="0"/>
              <a:endCxn id="329" idx="4"/>
            </p:cNvCxnSpPr>
            <p:nvPr/>
          </p:nvCxnSpPr>
          <p:spPr>
            <a:xfrm flipH="1">
              <a:off x="6226920" y="1796400"/>
              <a:ext cx="1346400" cy="20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2" name=""/>
            <p:cNvCxnSpPr>
              <a:stCxn id="329" idx="1"/>
              <a:endCxn id="329" idx="5"/>
            </p:cNvCxnSpPr>
            <p:nvPr/>
          </p:nvCxnSpPr>
          <p:spPr>
            <a:xfrm>
              <a:off x="6649920" y="1627200"/>
              <a:ext cx="501120" cy="24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"/>
            <p:cNvCxnSpPr>
              <a:stCxn id="329" idx="3"/>
              <a:endCxn id="329" idx="7"/>
            </p:cNvCxnSpPr>
            <p:nvPr/>
          </p:nvCxnSpPr>
          <p:spPr>
            <a:xfrm flipV="1">
              <a:off x="5693400" y="2570760"/>
              <a:ext cx="2414160" cy="53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7760" y="1323720"/>
            <a:ext cx="3029400" cy="3029400"/>
            <a:chOff x="5387760" y="1323720"/>
            <a:chExt cx="3029400" cy="3029400"/>
          </a:xfrm>
        </p:grpSpPr>
        <p:sp>
          <p:nvSpPr>
            <p:cNvPr id="336" name=""/>
            <p:cNvSpPr/>
            <p:nvPr/>
          </p:nvSpPr>
          <p:spPr>
            <a:xfrm rot="947400">
              <a:off x="5675040" y="1611000"/>
              <a:ext cx="2454120" cy="2454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6" idx="2"/>
              <a:endCxn id="336" idx="6"/>
            </p:cNvCxnSpPr>
            <p:nvPr/>
          </p:nvCxnSpPr>
          <p:spPr>
            <a:xfrm>
              <a:off x="5708520" y="2500200"/>
              <a:ext cx="2387160" cy="674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8" name=""/>
            <p:cNvCxnSpPr>
              <a:stCxn id="336" idx="0"/>
              <a:endCxn id="336" idx="4"/>
            </p:cNvCxnSpPr>
            <p:nvPr/>
          </p:nvCxnSpPr>
          <p:spPr>
            <a:xfrm flipH="1">
              <a:off x="6563880" y="1644120"/>
              <a:ext cx="674640" cy="238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9" name=""/>
            <p:cNvCxnSpPr>
              <a:stCxn id="336" idx="1"/>
              <a:endCxn id="336" idx="5"/>
            </p:cNvCxnSpPr>
            <p:nvPr/>
          </p:nvCxnSpPr>
          <p:spPr>
            <a:xfrm>
              <a:off x="6306480" y="1753200"/>
              <a:ext cx="1190520" cy="216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0" name=""/>
            <p:cNvCxnSpPr>
              <a:stCxn id="336" idx="3"/>
              <a:endCxn id="336" idx="7"/>
            </p:cNvCxnSpPr>
            <p:nvPr/>
          </p:nvCxnSpPr>
          <p:spPr>
            <a:xfrm flipV="1">
              <a:off x="5826600" y="2226240"/>
              <a:ext cx="2150280" cy="122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41" name=""/>
          <p:cNvGrpSpPr/>
          <p:nvPr/>
        </p:nvGrpSpPr>
        <p:grpSpPr>
          <a:xfrm>
            <a:off x="767880" y="1319040"/>
            <a:ext cx="3159360" cy="3159000"/>
            <a:chOff x="767880" y="1319040"/>
            <a:chExt cx="3159360" cy="3159000"/>
          </a:xfrm>
        </p:grpSpPr>
        <p:sp>
          <p:nvSpPr>
            <p:cNvPr id="342" name=""/>
            <p:cNvSpPr/>
            <p:nvPr/>
          </p:nvSpPr>
          <p:spPr>
            <a:xfrm>
              <a:off x="768240" y="1319040"/>
              <a:ext cx="3159000" cy="31590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342880" y="1350720"/>
              <a:ext cx="285840" cy="15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336760" y="1782000"/>
              <a:ext cx="1130400" cy="11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36760" y="2887200"/>
              <a:ext cx="154296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30280" y="2881080"/>
              <a:ext cx="1327320" cy="8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336760" y="1331640"/>
              <a:ext cx="612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1682640" y="1470960"/>
              <a:ext cx="660240" cy="14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926640" y="2175840"/>
              <a:ext cx="141588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869760" y="2354040"/>
              <a:ext cx="147312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7880" y="2893680"/>
              <a:ext cx="15685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60560" y="158076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57440" y="229212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00760" y="1358640"/>
              <a:ext cx="3513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8160" y="1409400"/>
              <a:ext cx="3747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23920" y="1752120"/>
              <a:ext cx="5112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49360" y="2893680"/>
              <a:ext cx="762120" cy="13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2880" y="2881080"/>
              <a:ext cx="457200" cy="15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860120" y="2912760"/>
              <a:ext cx="476280" cy="149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63280" y="2900160"/>
              <a:ext cx="148572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926640" y="2912760"/>
              <a:ext cx="1415880" cy="6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15400">
              <a:off x="1120320" y="1670760"/>
              <a:ext cx="2454120" cy="2454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2349360" y="2673360"/>
            <a:ext cx="120672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057040" y="1707840"/>
            <a:ext cx="29196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397160" y="2914560"/>
            <a:ext cx="939600" cy="7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11560" y="2870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8280" y="4959360"/>
            <a:ext cx="29404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ulette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ary search, n lo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6680" y="4540320"/>
            <a:ext cx="419940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chastic universal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atic re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ar tim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sy to implement, low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0A5-C461-4AFF-B226-53D19410A2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370160"/>
            <a:ext cx="84103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le filters are an implementation of recursive Bayesian fil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represent the posterior by a set of weighted s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context of localization, the particles are propagated according to the motion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are then weighted according to the likelihood of the observ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7680" indent="-5176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re-sampling step, new particles are drawn with a probability proportional to the likelihood of the observ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5B5-E755-479A-9752-CEFD54E3DF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tay in the “Gaussian world” as long as we start with Gaussians and perform only linear transform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6200" y="1473120"/>
                <a:ext cx="58370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μ</m:t>
                              </m:r>
                              <m:r>
                                <m:t xml:space="preserve">,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Aμ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AΣ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ultivariate Gaussia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31800" y="3184560"/>
                <a:ext cx="8319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945-9941-44E8-BD53-84288E6D6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crete Kalman Filter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5240" y="2835360"/>
                <a:ext cx="3454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9880" y="4921200"/>
                <a:ext cx="2233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08120" y="1225440"/>
            <a:ext cx="8126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the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discrete-time controlled process that is governed by the linear stochastic differenc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080" y="4016520"/>
            <a:ext cx="812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measur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154-F8AA-461E-ADA9-B66DF35A1F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ponents of a Kalman Filter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03240" y="4797360"/>
                <a:ext cx="417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622520" y="1425600"/>
            <a:ext cx="7126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nxn) that describes how the state evolve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out controls or no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82640" y="145404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641600" y="2549520"/>
            <a:ext cx="71262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nxm) that describes how the contr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hanges the stat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01720" y="259704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89120" y="3692520"/>
            <a:ext cx="712620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(kxn) that describes how to map the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an observ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49240" y="3759120"/>
                <a:ext cx="487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98560" y="5549760"/>
                <a:ext cx="4190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746360" y="4778280"/>
            <a:ext cx="71262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variables representing the process and measurement noise that are assumed to be independent and normally distributed with covari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681-873E-47F0-886A-F28F4127E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5C5-9C32-4792-8D69-527A33DD5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Kalman Filter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21716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Algorithm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 Kalman_fil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96880" y="2476440"/>
                <a:ext cx="2017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77800" y="2924280"/>
                <a:ext cx="2113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14440" y="4029120"/>
                <a:ext cx="304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38200" y="4429080"/>
                <a:ext cx="2708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59080" y="4857840"/>
                <a:ext cx="2019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1DD-A77A-4271-9E63-DEA85CC75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33:42Z</dcterms:created>
  <dc:creator/>
  <dc:description/>
  <dc:language>en-US</dc:language>
  <cp:lastModifiedBy>-</cp:lastModifiedBy>
  <dcterms:modified xsi:type="dcterms:W3CDTF">2011-09-01T22:05:59Z</dcterms:modified>
  <cp:revision>73</cp:revision>
  <dc:subject/>
  <dc:title>Introduction to  Mobile Robotics</dc:title>
</cp:coreProperties>
</file>